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F3A-7357-403B-84A1-856FEB5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D91-A4E0-4FED-B74B-DE0EE15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B5-4404-46D5-8FC0-A6FC2208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142-5083-4E1C-9F16-A351486F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3051-70E6-4164-A43C-DB998AB4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DDA-B356-4416-BB11-A4C0A07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E89D-FF93-444E-AA7F-F824F13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F4B8-0841-4568-9C89-CDA2CAA1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2D94-3F33-46DE-9A02-3A8727B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3D1-B54B-4EE3-AA90-FC354AC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FC6-6E10-4B93-B216-F7B4202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4CA-F8AD-4B9E-A48B-994B65F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EDF-CD46-4B5B-8334-DB03484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C485-94CA-4B27-B51B-71BC048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252-153F-47D3-8A1E-F6DDA2FB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6DDE-A00A-4D72-BFCB-C994CADA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FD81-78D8-41A0-BA5A-D9DAD254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0E6-0E2D-401A-B552-80CAB787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FB7-7ED6-46A1-9CDF-88C37D4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DAF-CCC3-4B51-B3D5-771AE1F2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AB0-E0DB-4530-806E-5FA39FA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5DD-7149-411D-B1E4-3AF9BFB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E01-DF70-458A-8DB3-08F2493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BD6-3F83-40A4-90DB-36EFE50F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646-4C21-445D-BA3C-CE75491D6D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7B4-5840-4959-AD92-0E9F19BF4B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     Clase 10 NM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28 de octubre del 201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10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finalizamos el repa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completa con el antónimo correc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estupid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antipát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mal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perezos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débi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 so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viej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, soy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actica: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scribe en espanol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te gusta hacer en t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 gusta…. / No m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e le gusta hacer en su tiempo lib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gusta… / No le gust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0080" y="685800"/>
            <a:ext cx="17845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773280"/>
            <a:ext cx="2133720" cy="2027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83844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172200" y="401004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8600" y="299736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cuchar mús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2840" y="280368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irar la televi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0320" y="342900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blar por telé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9480" y="6248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n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680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8280" y="60199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c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o se dice en espanol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7920" y="7621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2457720" cy="18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169992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3379680"/>
            <a:ext cx="2543040" cy="248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477120" y="3429000"/>
            <a:ext cx="2057400" cy="202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4320" y="25909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m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4200" y="26668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8880" y="2666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Descan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77920" y="5410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N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03280" y="586728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Vi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41920" y="563868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la guitar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5756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46640" y="457200"/>
            <a:ext cx="220644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3762360"/>
            <a:ext cx="2590560" cy="2127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249228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19920" y="3733920"/>
            <a:ext cx="2895480" cy="207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434280" y="533520"/>
            <a:ext cx="217008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1680" y="2590920"/>
            <a:ext cx="202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ocar el p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99680" y="2895480"/>
            <a:ext cx="26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com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82800" y="3124080"/>
            <a:ext cx="2312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omprar la r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7320" y="5715000"/>
            <a:ext cx="1982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éisb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37600" y="6248520"/>
            <a:ext cx="31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americ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92800" y="5638680"/>
            <a:ext cx="2387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balonc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5160" y="565200"/>
            <a:ext cx="3571920" cy="217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62532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2792520" cy="350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7400" y="2803680"/>
            <a:ext cx="176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futb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6760" y="2651040"/>
            <a:ext cx="2462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gar videoju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3600" y="6095880"/>
            <a:ext cx="291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Usar la computad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5280" y="6172200"/>
            <a:ext cx="136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studi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495680" y="2666880"/>
            <a:ext cx="1676520" cy="2733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7620120" y="1905120"/>
            <a:ext cx="1162080" cy="196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000" y="2666880"/>
            <a:ext cx="2189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Hacer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209680"/>
            <a:ext cx="1285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l 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85000" y="2057400"/>
            <a:ext cx="159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fies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2160" y="5867280"/>
            <a:ext cx="166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a la pl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9400" y="5410080"/>
            <a:ext cx="235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eer el periód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2640" y="3733920"/>
            <a:ext cx="1935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r de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7020000" y="4419720"/>
            <a:ext cx="1743120" cy="1911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75720" y="6324480"/>
            <a:ext cx="2710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Salir con amigos/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2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s hojas distribuida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galo bi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your bookcover so that you can get a text book, we will be using them next we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and bring your WORKBOOK, we will be using them next we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0:46Z</dcterms:created>
  <dc:creator>Helen Zumaeta</dc:creator>
  <dc:description/>
  <dc:language>en-US</dc:language>
  <cp:lastModifiedBy>NYCDOE</cp:lastModifiedBy>
  <dcterms:modified xsi:type="dcterms:W3CDTF">2011-10-25T13:21:03Z</dcterms:modified>
  <cp:revision>5</cp:revision>
  <dc:subject/>
  <dc:title>Me llamo _________       Clase 10 NM La fecha es el 21 de septiembre del 2011</dc:title>
</cp:coreProperties>
</file>